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01A-F6AC-4E9A-A23D-C3BF03B3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821-0715-414D-A531-C9168C97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D7C-DFD3-4194-A6B7-1A463661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132-429C-43E3-B9CF-13BC8928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25B-52DE-403F-8B44-8B3F91E1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12B-0CDD-4744-BD3C-E69281A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00C-DCD4-49B7-9AA3-DE12B14C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149-583A-4EC7-9694-BB72F3D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8C5-F086-4FD9-AB97-4E65EA4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931-D4D2-462D-9D06-B26A6DE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0BF-9582-40D5-A8FC-F7142BD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5C7-AC09-4482-ABFD-BE24E11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73B-DD4B-4B78-99A4-A226BB1D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A Day in the lif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2565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By Jade Pennycott 7L2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78936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Fri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356000" cy="3576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16360" y="206064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On a Friday we go home at 2:30 instead of 3:1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Regis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155736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 the mornings we all go to our tutor room to check we are all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whrry"/>
          <p:cNvPicPr/>
          <p:nvPr/>
        </p:nvPicPr>
        <p:blipFill>
          <a:blip r:embed="rId1"/>
          <a:stretch/>
        </p:blipFill>
        <p:spPr>
          <a:xfrm>
            <a:off x="2843280" y="29145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f5e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P.E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e"/>
          <p:cNvPicPr/>
          <p:nvPr/>
        </p:nvPicPr>
        <p:blipFill>
          <a:blip r:embed="rId1"/>
          <a:stretch/>
        </p:blipFill>
        <p:spPr>
          <a:xfrm>
            <a:off x="250920" y="206064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80000" y="1844640"/>
            <a:ext cx="302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 P.E we play lots of different sports. At the moment we are playing hockey I have learnt a lot in P.E even though it isn’t one of my favourite su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D.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aw"/>
          <p:cNvPicPr/>
          <p:nvPr/>
        </p:nvPicPr>
        <p:blipFill>
          <a:blip r:embed="rId1"/>
          <a:stretch/>
        </p:blipFill>
        <p:spPr>
          <a:xfrm>
            <a:off x="324000" y="1413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32360" y="155736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really enjoy D.T I am making a woodpecker at the moment, when I have finished it should  peck the wood when I pull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575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Br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932360" cy="369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1557360"/>
            <a:ext cx="35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During break everyone goes anywhere they want to really. This picture is of some people in the back fie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5e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D.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887640" cy="291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9402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0360" y="1700280"/>
            <a:ext cx="46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Here is another picture for D.T because on a Friday we have double D.T . The first picture is of D.T 1 and the second is of D.T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35640" y="1844640"/>
            <a:ext cx="331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his is the outside of the canteen. You can eat there if you are dinners or packed lu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R.E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rucifix"/>
          <p:cNvPicPr/>
          <p:nvPr/>
        </p:nvPicPr>
        <p:blipFill>
          <a:blip r:embed="rId2"/>
          <a:stretch/>
        </p:blipFill>
        <p:spPr>
          <a:xfrm>
            <a:off x="684360" y="1413000"/>
            <a:ext cx="2857320" cy="46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11640" y="1700280"/>
            <a:ext cx="41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n R.E we learn about lots of different religions. I am not religious though.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Germ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german flag"/>
          <p:cNvPicPr/>
          <p:nvPr/>
        </p:nvPicPr>
        <p:blipFill>
          <a:blip r:embed="rId1"/>
          <a:stretch/>
        </p:blipFill>
        <p:spPr>
          <a:xfrm>
            <a:off x="250920" y="1989000"/>
            <a:ext cx="3816360" cy="304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227664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am learning German at school it is sehr gud (very good in Germa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0:46:27Z</dcterms:created>
  <dc:creator>8jadepennycott</dc:creator>
  <dc:description/>
  <dc:language>en-US</dc:language>
  <cp:lastModifiedBy>8jadepennycott</cp:lastModifiedBy>
  <dcterms:modified xsi:type="dcterms:W3CDTF">2008-10-21T10:45:55Z</dcterms:modified>
  <cp:revision>8</cp:revision>
  <dc:subject/>
  <dc:title>Registration</dc:title>
</cp:coreProperties>
</file>